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2.wmf" ContentType="image/x-wmf"/>
  <Override PartName="/ppt/media/image5.png" ContentType="image/png"/>
  <Override PartName="/ppt/media/image13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36.wmf" ContentType="image/x-wmf"/>
  <Override PartName="/ppt/media/image6.wmf" ContentType="image/x-wmf"/>
  <Override PartName="/ppt/media/image11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29.jpeg" ContentType="image/jpeg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22860000" cy="27432000"/>
  <p:notesSz cx="23871238" cy="28201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F18B-E6AB-4D47-BAF5-56E34741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14320" y="2438280"/>
            <a:ext cx="19431000" cy="45720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73520"/>
                <a:tab algn="l" pos="5746680"/>
                <a:tab algn="l" pos="8620200"/>
              </a:tabLst>
            </a:pP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14320" y="7924680"/>
            <a:ext cx="1943100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14320" y="16521840"/>
            <a:ext cx="1943100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686E-64FA-4C6E-9E8D-302D3AA5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14320" y="2438280"/>
            <a:ext cx="19431000" cy="45720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73520"/>
                <a:tab algn="l" pos="5746680"/>
                <a:tab algn="l" pos="8620200"/>
              </a:tabLst>
            </a:pP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14320" y="7924680"/>
            <a:ext cx="948204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670840" y="7924680"/>
            <a:ext cx="948204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14320" y="16521840"/>
            <a:ext cx="948204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670840" y="16521840"/>
            <a:ext cx="948204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3E87-FCC8-409B-A4ED-0EBE644C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14320" y="2438280"/>
            <a:ext cx="19431000" cy="45720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73520"/>
                <a:tab algn="l" pos="5746680"/>
                <a:tab algn="l" pos="8620200"/>
              </a:tabLst>
            </a:pP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14320" y="7924680"/>
            <a:ext cx="625644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283960" y="7924680"/>
            <a:ext cx="625644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853600" y="7924680"/>
            <a:ext cx="625644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14320" y="16521840"/>
            <a:ext cx="625644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8283960" y="16521840"/>
            <a:ext cx="625644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853600" y="16521840"/>
            <a:ext cx="625644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E3EB-32E5-48E3-9F17-4E5B3B8E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14320" y="2438280"/>
            <a:ext cx="19431000" cy="45720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73520"/>
                <a:tab algn="l" pos="5746680"/>
                <a:tab algn="l" pos="8620200"/>
              </a:tabLst>
            </a:pP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14320" y="7924680"/>
            <a:ext cx="19431000" cy="164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26"/>
              </a:spcBef>
              <a:buNone/>
              <a:tabLst>
                <a:tab algn="l" pos="0"/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5CD4-F34D-43D9-AD3B-E951A8CB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14320" y="2438280"/>
            <a:ext cx="19431000" cy="45720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73520"/>
                <a:tab algn="l" pos="5746680"/>
                <a:tab algn="l" pos="8620200"/>
              </a:tabLst>
            </a:pP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14320" y="7924680"/>
            <a:ext cx="19431000" cy="164592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1346-B696-4DB6-A7FB-C15D38B1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14320" y="2438280"/>
            <a:ext cx="19431000" cy="45720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73520"/>
                <a:tab algn="l" pos="5746680"/>
                <a:tab algn="l" pos="8620200"/>
              </a:tabLst>
            </a:pP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14320" y="7924680"/>
            <a:ext cx="9482040" cy="164592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670840" y="7924680"/>
            <a:ext cx="9482040" cy="164592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C014-5B52-48E1-99F2-A74CB10F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14320" y="2438280"/>
            <a:ext cx="19431000" cy="45720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73520"/>
                <a:tab algn="l" pos="5746680"/>
                <a:tab algn="l" pos="8620200"/>
              </a:tabLst>
            </a:pP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D334-F433-414D-9CAF-3AF57142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14320" y="2438280"/>
            <a:ext cx="19431000" cy="21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26"/>
              </a:spcBef>
              <a:tabLst>
                <a:tab algn="l" pos="0"/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19C1-D318-42F0-BF4F-1BD96DAD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14320" y="2438280"/>
            <a:ext cx="19431000" cy="45720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73520"/>
                <a:tab algn="l" pos="5746680"/>
                <a:tab algn="l" pos="8620200"/>
              </a:tabLst>
            </a:pP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14320" y="7924680"/>
            <a:ext cx="948204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670840" y="7924680"/>
            <a:ext cx="9482040" cy="164592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14320" y="16521840"/>
            <a:ext cx="948204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5914-F0E6-4662-9565-85347A3E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14320" y="2438280"/>
            <a:ext cx="19431000" cy="45720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73520"/>
                <a:tab algn="l" pos="5746680"/>
                <a:tab algn="l" pos="8620200"/>
              </a:tabLst>
            </a:pP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14320" y="7924680"/>
            <a:ext cx="9482040" cy="164592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670840" y="7924680"/>
            <a:ext cx="948204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670840" y="16521840"/>
            <a:ext cx="948204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1A0D-7BE6-4D42-B943-989411F2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14320" y="2438280"/>
            <a:ext cx="19431000" cy="45720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73520"/>
                <a:tab algn="l" pos="5746680"/>
                <a:tab algn="l" pos="8620200"/>
              </a:tabLst>
            </a:pP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14320" y="7924680"/>
            <a:ext cx="948204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670840" y="7924680"/>
            <a:ext cx="948204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14320" y="16521840"/>
            <a:ext cx="1943100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C736-B7DD-4A57-A335-D9939D86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14320" y="2438280"/>
            <a:ext cx="19431000" cy="45720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73520"/>
                <a:tab algn="l" pos="5746680"/>
                <a:tab algn="l" pos="86202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14320" y="7924680"/>
            <a:ext cx="19431000" cy="164592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marL="1077840" indent="-1077840">
              <a:spcBef>
                <a:spcPts val="2526"/>
              </a:spcBef>
              <a:buClr>
                <a:srgbClr val="000000"/>
              </a:buClr>
              <a:buFont typeface="Times New Roman"/>
              <a:buChar char="•"/>
              <a:tabLst>
                <a:tab algn="l" pos="2873520"/>
                <a:tab algn="l" pos="5746680"/>
                <a:tab algn="l" pos="862020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  <a:p>
            <a:pPr lvl="1" marL="2335320" indent="-898560">
              <a:spcBef>
                <a:spcPts val="2526"/>
              </a:spcBef>
              <a:buClr>
                <a:srgbClr val="000000"/>
              </a:buClr>
              <a:buFont typeface="Times New Roman"/>
              <a:buChar char="–"/>
              <a:tabLst>
                <a:tab algn="l" pos="2873520"/>
                <a:tab algn="l" pos="5746680"/>
                <a:tab algn="l" pos="862020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  <a:p>
            <a:pPr lvl="2" marL="3592440" indent="-718920">
              <a:spcBef>
                <a:spcPts val="2526"/>
              </a:spcBef>
              <a:buClr>
                <a:srgbClr val="000000"/>
              </a:buClr>
              <a:buFont typeface="Times New Roman"/>
              <a:buChar char="•"/>
              <a:tabLst>
                <a:tab algn="l" pos="2873520"/>
                <a:tab algn="l" pos="5746680"/>
                <a:tab algn="l" pos="862020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  <a:p>
            <a:pPr lvl="3" marL="5029200" indent="-719280">
              <a:spcBef>
                <a:spcPts val="2526"/>
              </a:spcBef>
              <a:buClr>
                <a:srgbClr val="000000"/>
              </a:buClr>
              <a:buFont typeface="Times New Roman"/>
              <a:buChar char="–"/>
              <a:tabLst>
                <a:tab algn="l" pos="2873520"/>
                <a:tab algn="l" pos="5746680"/>
                <a:tab algn="l" pos="862020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  <a:p>
            <a:pPr lvl="4" marL="6465960" indent="-717480">
              <a:spcBef>
                <a:spcPts val="2526"/>
              </a:spcBef>
              <a:buClr>
                <a:srgbClr val="000000"/>
              </a:buClr>
              <a:buFont typeface="Times New Roman"/>
              <a:buChar char="»"/>
              <a:tabLst>
                <a:tab algn="l" pos="2873520"/>
                <a:tab algn="l" pos="5746680"/>
                <a:tab algn="l" pos="862020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  <a:p>
            <a:pPr lvl="5" marL="6465960" indent="-717480">
              <a:spcBef>
                <a:spcPts val="2526"/>
              </a:spcBef>
              <a:buClr>
                <a:srgbClr val="000000"/>
              </a:buClr>
              <a:buFont typeface="Times New Roman"/>
              <a:buChar char="»"/>
              <a:tabLst>
                <a:tab algn="l" pos="2873520"/>
                <a:tab algn="l" pos="5746680"/>
                <a:tab algn="l" pos="862020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  <a:p>
            <a:pPr lvl="6" marL="6465960" indent="-717480">
              <a:spcBef>
                <a:spcPts val="2526"/>
              </a:spcBef>
              <a:buClr>
                <a:srgbClr val="000000"/>
              </a:buClr>
              <a:buFont typeface="Times New Roman"/>
              <a:buChar char="»"/>
              <a:tabLst>
                <a:tab algn="l" pos="2873520"/>
                <a:tab algn="l" pos="5746680"/>
                <a:tab algn="l" pos="862020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14320" y="24993720"/>
            <a:ext cx="4762440" cy="18288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Autofit/>
          </a:bodyPr>
          <a:lstStyle>
            <a:lvl1pPr indent="0">
              <a:buNone/>
              <a:tabLst>
                <a:tab algn="l" pos="0"/>
                <a:tab algn="l" pos="2873520"/>
                <a:tab algn="l" pos="5746680"/>
                <a:tab algn="l" pos="8620200"/>
              </a:tabLst>
              <a:defRPr b="0" lang="en-US" sz="4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873520"/>
                <a:tab algn="l" pos="5746680"/>
                <a:tab algn="l" pos="8620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810560" y="24993720"/>
            <a:ext cx="7238880" cy="18288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Autofit/>
          </a:bodyPr>
          <a:lstStyle>
            <a:lvl1pPr indent="0" algn="ctr">
              <a:buNone/>
              <a:tabLst>
                <a:tab algn="l" pos="0"/>
                <a:tab algn="l" pos="2873520"/>
                <a:tab algn="l" pos="5746680"/>
                <a:tab algn="l" pos="8620200"/>
              </a:tabLst>
              <a:defRPr b="0" lang="en-US" sz="4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873520"/>
                <a:tab algn="l" pos="5746680"/>
                <a:tab algn="l" pos="8620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382880" y="24993720"/>
            <a:ext cx="4762800" cy="18288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Autofit/>
          </a:bodyPr>
          <a:lstStyle>
            <a:lvl1pPr indent="0" algn="r">
              <a:buNone/>
              <a:tabLst>
                <a:tab algn="l" pos="0"/>
                <a:tab algn="l" pos="2873520"/>
                <a:tab algn="l" pos="5746680"/>
                <a:tab algn="l" pos="8620200"/>
              </a:tabLst>
              <a:defRPr b="0" lang="en-US" sz="4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873520"/>
                <a:tab algn="l" pos="5746680"/>
                <a:tab algn="l" pos="8620200"/>
              </a:tabLst>
            </a:pPr>
            <a:fld id="{DEBF5DDB-7CC3-4D51-981E-64F6AD9EC062}" type="slidenum"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wmf"/><Relationship Id="rId11" Type="http://schemas.openxmlformats.org/officeDocument/2006/relationships/image" Target="../media/image29.jpeg"/><Relationship Id="rId12" Type="http://schemas.openxmlformats.org/officeDocument/2006/relationships/image" Target="../media/image29.jpeg"/><Relationship Id="rId13" Type="http://schemas.openxmlformats.org/officeDocument/2006/relationships/image" Target="../media/image29.jpeg"/><Relationship Id="rId14" Type="http://schemas.openxmlformats.org/officeDocument/2006/relationships/image" Target="../media/image29.jpeg"/><Relationship Id="rId15" Type="http://schemas.openxmlformats.org/officeDocument/2006/relationships/image" Target="../media/image30.wm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6517600"/>
            <a:ext cx="228600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6781680"/>
            <a:ext cx="20954880" cy="99061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50000">
                <a:srgbClr val="ffffff"/>
              </a:gs>
              <a:gs pos="100000">
                <a:srgbClr val="cc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2021920"/>
            <a:ext cx="11354040" cy="46479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900" spc="-1" strike="noStrike">
                <a:solidFill>
                  <a:srgbClr val="000000"/>
                </a:solidFill>
                <a:latin typeface="Times New Roman"/>
              </a:rPr>
              <a:t>ADIOS!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582280" y="9372600"/>
            <a:ext cx="4191120" cy="3200400"/>
          </a:xfrm>
          <a:prstGeom prst="wedgeEllipseCallout">
            <a:avLst>
              <a:gd name="adj1" fmla="val 68407"/>
              <a:gd name="adj2" fmla="val 262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990720"/>
            <a:ext cx="20726640" cy="5257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600200" y="1447920"/>
            <a:ext cx="198882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ffff00"/>
                  </a:outerShdw>
                </a:effectLst>
                <a:latin typeface="Times New Roman"/>
              </a:rPr>
              <a:t>SALUDOS Y DESPEDID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ffff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697080" y="9829800"/>
            <a:ext cx="5677200" cy="5715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3880" y="8839080"/>
            <a:ext cx="5096160" cy="4233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38080" y="21945600"/>
            <a:ext cx="6438960" cy="3733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772400" y="7010280"/>
            <a:ext cx="8991720" cy="9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Staccato222 BT"/>
              </a:rPr>
              <a:t>BUENOS DIA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33"/>
                </a:solidFill>
                <a:latin typeface="Staccato222 BT"/>
              </a:rPr>
              <a:t>QUE TAL!</a:t>
            </a:r>
            <a:r>
              <a:rPr b="1" lang="en-US" sz="6000" spc="-1" strike="noStrike">
                <a:solidFill>
                  <a:srgbClr val="33cc33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33cc33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Staccato222 BT"/>
              </a:rPr>
              <a:t>BUENA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Staccato222 BT"/>
              </a:rPr>
              <a:t>TARDE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Staccato222 BT"/>
              </a:rPr>
              <a:t>BUENAS!</a:t>
            </a:r>
            <a:r>
              <a:rPr b="0" lang="en-US" sz="6000" spc="-1" strike="noStrike">
                <a:solidFill>
                  <a:srgbClr val="3333cc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Staccato222 BT"/>
              </a:rPr>
              <a:t>BUENA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Staccato222 BT"/>
              </a:rPr>
              <a:t>NOCHE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7238880"/>
            <a:ext cx="4952880" cy="19814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HOLA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20978400">
            <a:off x="1295280" y="19049760"/>
            <a:ext cx="5867640" cy="23619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ASTA LUEGO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16306920"/>
            <a:ext cx="6477120" cy="518148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A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ISTA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706720" y="17754480"/>
            <a:ext cx="6553080" cy="27432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HASTA PRONTO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1051600">
            <a:off x="13030200" y="22326480"/>
            <a:ext cx="8915400" cy="2210040"/>
          </a:xfrm>
          <a:custGeom>
            <a:avLst/>
            <a:gdLst>
              <a:gd name="textAreaLeft" fmla="*/ 0 w 8915400"/>
              <a:gd name="textAreaRight" fmla="*/ 8915400 w 8915400"/>
              <a:gd name="textAreaTop" fmla="*/ 286200 h 2210040"/>
              <a:gd name="textAreaBottom" fmla="*/ 19238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Times New Roman"/>
              </a:rPr>
              <a:t>HASTA MANANA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28600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4400" y="7467480"/>
            <a:ext cx="12039480" cy="1996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6517600"/>
            <a:ext cx="228600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53880" y="5029200"/>
            <a:ext cx="8839440" cy="187452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676520" y="1371600"/>
            <a:ext cx="1859256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3333cc"/>
                  </a:outerShdw>
                </a:effectLst>
                <a:latin typeface="Times New Roman"/>
              </a:rPr>
              <a:t>TU NOMB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07932" dir="2700000" blurRad="0" rotWithShape="0">
                  <a:srgbClr val="3333cc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3333cc"/>
                  </a:outerShdw>
                </a:effectLst>
                <a:latin typeface="Times New Roman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07932" dir="2700000" blurRad="0" rotWithShape="0">
                  <a:srgbClr val="3333cc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3333cc"/>
                  </a:outerShdw>
                </a:effectLst>
                <a:latin typeface="Times New Roman"/>
              </a:rPr>
              <a:t>TU NACIONALID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07932" dir="2700000" blurRad="0" rotWithShape="0">
                  <a:srgbClr val="3333cc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29200" y="15773400"/>
            <a:ext cx="11963520" cy="10988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</p:pic>
      <p:sp>
        <p:nvSpPr>
          <p:cNvPr id="62" name=""/>
          <p:cNvSpPr/>
          <p:nvPr/>
        </p:nvSpPr>
        <p:spPr>
          <a:xfrm>
            <a:off x="1066680" y="6934320"/>
            <a:ext cx="11277720" cy="8305560"/>
          </a:xfrm>
          <a:prstGeom prst="wedgeRectCallout">
            <a:avLst>
              <a:gd name="adj1" fmla="val -9726"/>
              <a:gd name="adj2" fmla="val 689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L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 LLAMO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PAULA Y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OY ESPAÑOL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OY D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ESPAÑ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E ES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I AMIGO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ARLO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ÉL ES D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LOS  ESTADOS UNID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S AMERICANO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639680" y="7162920"/>
            <a:ext cx="7848720" cy="11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Serifa Th BT"/>
              </a:rPr>
              <a:t>CÓMO TE LLAMAS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Serifa Th BT"/>
              </a:rPr>
              <a:t>CUAL ES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 TU NACIONALIDAD?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Serifa Th BT"/>
              </a:rPr>
              <a:t>DE DÓNDE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 E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Serifa Th BT"/>
              </a:rPr>
              <a:t>QUIEN ES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 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Serifa Th BT"/>
              </a:rPr>
              <a:t>CÓMO SE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 LLAMA 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Serifa Th BT"/>
              </a:rPr>
              <a:t>DE DÓNDE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 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	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Serifa Th BT"/>
              </a:rPr>
              <a:t>CUAL ES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 SU 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NACIONALID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228600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133720" y="17678520"/>
            <a:ext cx="19278360" cy="8534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8077320"/>
            <a:ext cx="10744200" cy="10515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963520" y="12801600"/>
            <a:ext cx="8153280" cy="4800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335120" y="8763120"/>
            <a:ext cx="8153280" cy="4800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753480" y="4572000"/>
            <a:ext cx="8153640" cy="4800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01600" y="1066680"/>
            <a:ext cx="8153280" cy="4800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1905120"/>
            <a:ext cx="8153280" cy="4800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601200" y="4191120"/>
            <a:ext cx="2911320" cy="4852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3568680" cy="5220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8897480" y="8381880"/>
            <a:ext cx="2318040" cy="4953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133720" y="18135720"/>
            <a:ext cx="10362960" cy="8102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2133720" y="10896480"/>
            <a:ext cx="6534000" cy="6558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5773400" y="12801600"/>
            <a:ext cx="3336840" cy="4952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4343400" y="3124080"/>
            <a:ext cx="5105520" cy="206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YO SOY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6764120" y="1295280"/>
            <a:ext cx="4952880" cy="2421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12953880" y="2666880"/>
            <a:ext cx="5105520" cy="206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U ER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420720" y="5410080"/>
            <a:ext cx="5105160" cy="206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LLA 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249520" y="10134720"/>
            <a:ext cx="48765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L 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591920" y="14478120"/>
            <a:ext cx="5105160" cy="20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UD. 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14400" y="9448920"/>
            <a:ext cx="10972800" cy="20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OSOTROS SOMO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896480" y="20421720"/>
            <a:ext cx="83822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LLOS S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228600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6517600"/>
            <a:ext cx="228600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687800" y="23774400"/>
            <a:ext cx="50054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107932" dir="18900000" blurRad="0" rotWithShape="0">
                    <a:srgbClr val="00ffff"/>
                  </a:outerShdw>
                </a:effectLst>
                <a:latin typeface="Arial Black"/>
              </a:rPr>
              <a:t>S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107932" dir="18900000" blurRad="0" rotWithShape="0">
                  <a:srgbClr val="00ff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335120" y="8763120"/>
            <a:ext cx="8153280" cy="480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468480" y="8839080"/>
            <a:ext cx="4124520" cy="4200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33720" y="17678520"/>
            <a:ext cx="19278360" cy="8534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8077320"/>
            <a:ext cx="10744200" cy="10515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963520" y="12801600"/>
            <a:ext cx="8153280" cy="480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53480" y="4572000"/>
            <a:ext cx="8153640" cy="480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801600" y="1066680"/>
            <a:ext cx="8153280" cy="480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1295280"/>
            <a:ext cx="8153280" cy="480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114800" y="3124080"/>
            <a:ext cx="58672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YO ESTOY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277720" y="1371600"/>
            <a:ext cx="5943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U ESTA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859000" y="6400800"/>
            <a:ext cx="55627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LLA ESTA'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068680" y="12420720"/>
            <a:ext cx="48769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L ESTA'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96480" y="14478120"/>
            <a:ext cx="57913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UD. ESTA'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400" y="8991720"/>
            <a:ext cx="12344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OSOTROS ESTAMO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228600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517600"/>
            <a:ext cx="228600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" y="16382880"/>
            <a:ext cx="13868280" cy="9902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38480" y="8305920"/>
            <a:ext cx="15240240" cy="10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915400" y="18592920"/>
            <a:ext cx="9829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LLOS ESTA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895480" y="10439280"/>
            <a:ext cx="7105680" cy="5666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0591920" y="5181480"/>
            <a:ext cx="3733560" cy="3479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1887200" y="21107520"/>
            <a:ext cx="6662880" cy="4332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17525880" y="14859000"/>
            <a:ext cx="2478240" cy="3738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1187280" y="1752480"/>
            <a:ext cx="4527720" cy="5486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18211680" y="1371600"/>
            <a:ext cx="3505320" cy="3454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371600" y="24765120"/>
            <a:ext cx="12344400" cy="2059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900" spc="-1" strike="noStrike">
                <a:solidFill>
                  <a:srgbClr val="000000"/>
                </a:solidFill>
                <a:latin typeface="Times New Roman"/>
              </a:rPr>
              <a:t>EN LA PLAYA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068680" y="18668880"/>
            <a:ext cx="685800" cy="776520"/>
          </a:xfrm>
          <a:custGeom>
            <a:avLst/>
            <a:gdLst/>
            <a:ahLst/>
            <a:rect l="l" t="t" r="r" b="b"/>
            <a:pathLst>
              <a:path w="554" h="729">
                <a:moveTo>
                  <a:pt x="461" y="0"/>
                </a:moveTo>
                <a:cubicBezTo>
                  <a:pt x="415" y="15"/>
                  <a:pt x="357" y="12"/>
                  <a:pt x="323" y="46"/>
                </a:cubicBezTo>
                <a:cubicBezTo>
                  <a:pt x="234" y="136"/>
                  <a:pt x="296" y="306"/>
                  <a:pt x="231" y="415"/>
                </a:cubicBezTo>
                <a:cubicBezTo>
                  <a:pt x="175" y="508"/>
                  <a:pt x="0" y="646"/>
                  <a:pt x="0" y="646"/>
                </a:cubicBezTo>
                <a:cubicBezTo>
                  <a:pt x="181" y="691"/>
                  <a:pt x="221" y="729"/>
                  <a:pt x="415" y="646"/>
                </a:cubicBezTo>
                <a:cubicBezTo>
                  <a:pt x="455" y="629"/>
                  <a:pt x="477" y="585"/>
                  <a:pt x="508" y="554"/>
                </a:cubicBezTo>
                <a:cubicBezTo>
                  <a:pt x="523" y="492"/>
                  <a:pt x="554" y="433"/>
                  <a:pt x="554" y="369"/>
                </a:cubicBezTo>
                <a:cubicBezTo>
                  <a:pt x="554" y="236"/>
                  <a:pt x="461" y="130"/>
                  <a:pt x="461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0" y="914400"/>
            <a:ext cx="457200" cy="395280"/>
          </a:xfrm>
          <a:custGeom>
            <a:avLst/>
            <a:gdLst/>
            <a:ahLst/>
            <a:rect l="l" t="t" r="r" b="b"/>
            <a:pathLst>
              <a:path w="554" h="729">
                <a:moveTo>
                  <a:pt x="461" y="0"/>
                </a:moveTo>
                <a:cubicBezTo>
                  <a:pt x="415" y="15"/>
                  <a:pt x="357" y="12"/>
                  <a:pt x="323" y="46"/>
                </a:cubicBezTo>
                <a:cubicBezTo>
                  <a:pt x="234" y="136"/>
                  <a:pt x="296" y="306"/>
                  <a:pt x="231" y="415"/>
                </a:cubicBezTo>
                <a:cubicBezTo>
                  <a:pt x="175" y="508"/>
                  <a:pt x="0" y="646"/>
                  <a:pt x="0" y="646"/>
                </a:cubicBezTo>
                <a:cubicBezTo>
                  <a:pt x="181" y="691"/>
                  <a:pt x="221" y="729"/>
                  <a:pt x="415" y="646"/>
                </a:cubicBezTo>
                <a:cubicBezTo>
                  <a:pt x="455" y="629"/>
                  <a:pt x="477" y="585"/>
                  <a:pt x="508" y="554"/>
                </a:cubicBezTo>
                <a:cubicBezTo>
                  <a:pt x="523" y="492"/>
                  <a:pt x="554" y="433"/>
                  <a:pt x="554" y="369"/>
                </a:cubicBezTo>
                <a:cubicBezTo>
                  <a:pt x="554" y="236"/>
                  <a:pt x="461" y="130"/>
                  <a:pt x="461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6459200" y="23012280"/>
            <a:ext cx="5410080" cy="319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107932" dir="18900000" blurRad="0" rotWithShape="0">
                    <a:srgbClr val="ffff00"/>
                  </a:outerShdw>
                </a:effectLst>
                <a:latin typeface="Arial Black"/>
              </a:rPr>
              <a:t>ESTA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107932" dir="18900000" blurRad="0" rotWithShape="0">
                  <a:srgbClr val="ffff0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990720"/>
            <a:ext cx="11201400" cy="255268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686800" y="12039480"/>
            <a:ext cx="2666880" cy="5562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658600" y="685800"/>
            <a:ext cx="11201400" cy="2552688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810880" y="10439280"/>
            <a:ext cx="3886200" cy="3429000"/>
          </a:xfrm>
          <a:prstGeom prst="ellipse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449920" y="12420720"/>
            <a:ext cx="5105160" cy="32004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34920" y="15468480"/>
            <a:ext cx="4114800" cy="4724640"/>
          </a:xfrm>
          <a:prstGeom prst="diamond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602200" y="20802600"/>
            <a:ext cx="5105520" cy="175248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344400" y="23926680"/>
            <a:ext cx="4343400" cy="22100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24993720"/>
            <a:ext cx="5791320" cy="16002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16002000"/>
            <a:ext cx="2819520" cy="3200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228600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6517600"/>
            <a:ext cx="228600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24480" y="5334120"/>
            <a:ext cx="3337200" cy="4952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5773400" y="4800600"/>
            <a:ext cx="5524560" cy="4630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38080" y="7467480"/>
            <a:ext cx="5943600" cy="1828800"/>
          </a:xfrm>
          <a:prstGeom prst="wedgeEllipseCallout">
            <a:avLst>
              <a:gd name="adj1" fmla="val 60736"/>
              <a:gd name="adj2" fmla="val -144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cc"/>
                </a:solidFill>
                <a:latin typeface="Times New Roman"/>
              </a:rPr>
              <a:t>CÓMO SE LLAMA UD.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10439280"/>
            <a:ext cx="8153280" cy="1676520"/>
          </a:xfrm>
          <a:prstGeom prst="wedgeEllipseCallout">
            <a:avLst>
              <a:gd name="adj1" fmla="val 52217"/>
              <a:gd name="adj2" fmla="val 1304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CÓMO ESTÁ UD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13639680"/>
            <a:ext cx="7315200" cy="2210040"/>
          </a:xfrm>
          <a:prstGeom prst="wedgeEllipseCallout">
            <a:avLst>
              <a:gd name="adj1" fmla="val -47222"/>
              <a:gd name="adj2" fmla="val 327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UANTOS AÑOS TIENE U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16306920"/>
            <a:ext cx="6705720" cy="2057400"/>
          </a:xfrm>
          <a:prstGeom prst="wedgeEllipseCallout">
            <a:avLst>
              <a:gd name="adj1" fmla="val 61791"/>
              <a:gd name="adj2" fmla="val 126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Times New Roman"/>
              </a:rPr>
              <a:t>DE DÓNDE ES U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19888200"/>
            <a:ext cx="6933960" cy="1828800"/>
          </a:xfrm>
          <a:prstGeom prst="wedgeEllipseCallout">
            <a:avLst>
              <a:gd name="adj1" fmla="val -51236"/>
              <a:gd name="adj2" fmla="val 1196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MUCHO GU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22326480"/>
            <a:ext cx="5639040" cy="1981440"/>
          </a:xfrm>
          <a:prstGeom prst="wedgeEllipseCallout">
            <a:avLst>
              <a:gd name="adj1" fmla="val 53884"/>
              <a:gd name="adj2" fmla="val 1354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QUÉ HACE UD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351560" y="11277720"/>
            <a:ext cx="3445200" cy="5110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85800" y="23018760"/>
            <a:ext cx="4267080" cy="3270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1143000" y="15697080"/>
            <a:ext cx="1785960" cy="3429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12496680" y="23469480"/>
            <a:ext cx="3891240" cy="2368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6459200" y="10058400"/>
            <a:ext cx="5943600" cy="1752480"/>
          </a:xfrm>
          <a:prstGeom prst="wedgeRectCallout">
            <a:avLst>
              <a:gd name="adj1" fmla="val -81652"/>
              <a:gd name="adj2" fmla="val 13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CÓMO TE LLAM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810880" y="13944600"/>
            <a:ext cx="6477120" cy="1447920"/>
          </a:xfrm>
          <a:prstGeom prst="wedgeRectCallout">
            <a:avLst>
              <a:gd name="adj1" fmla="val 59189"/>
              <a:gd name="adj2" fmla="val -113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UANTOS AÑOS TIENES T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849720" y="16002000"/>
            <a:ext cx="5257800" cy="1295280"/>
          </a:xfrm>
          <a:prstGeom prst="wedgeRectCallout">
            <a:avLst>
              <a:gd name="adj1" fmla="val -74185"/>
              <a:gd name="adj2" fmla="val -411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Times New Roman"/>
              </a:rPr>
              <a:t>DE DÓNDE ER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487400" y="19126080"/>
            <a:ext cx="4191120" cy="1371600"/>
          </a:xfrm>
          <a:prstGeom prst="wedgeRectCallout">
            <a:avLst>
              <a:gd name="adj1" fmla="val 79657"/>
              <a:gd name="adj2" fmla="val -5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3300"/>
                </a:solidFill>
                <a:latin typeface="Times New Roman"/>
              </a:rPr>
              <a:t>HOLA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12192120" y="16078320"/>
            <a:ext cx="3224160" cy="2689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18592920" y="12461760"/>
            <a:ext cx="3276360" cy="2833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18440280" y="18516600"/>
            <a:ext cx="3886200" cy="3735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2115800" y="7315200"/>
            <a:ext cx="3886200" cy="1295280"/>
          </a:xfrm>
          <a:prstGeom prst="wedgeRectCallout">
            <a:avLst>
              <a:gd name="adj1" fmla="val 86805"/>
              <a:gd name="adj2" fmla="val -107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ÓMO ESTÁ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12268080" y="10667880"/>
            <a:ext cx="3133800" cy="2600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992720" y="24307920"/>
            <a:ext cx="5257800" cy="1295280"/>
          </a:xfrm>
          <a:prstGeom prst="wedgeRectCallout">
            <a:avLst>
              <a:gd name="adj1" fmla="val -74185"/>
              <a:gd name="adj2" fmla="val -1235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E HAC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43000" y="1523880"/>
            <a:ext cx="9448920" cy="380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ffff00"/>
                  </a:outerShdw>
                </a:effectLst>
                <a:latin typeface="Arial Black"/>
              </a:rPr>
              <a:t>F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ffff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582280" y="1066680"/>
            <a:ext cx="10134720" cy="380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ffff00"/>
                  </a:outerShdw>
                </a:effectLst>
                <a:latin typeface="Arial Black"/>
              </a:rPr>
              <a:t>INF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ffff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5"/>
          <a:stretch/>
        </p:blipFill>
        <p:spPr>
          <a:xfrm>
            <a:off x="9829800" y="18059400"/>
            <a:ext cx="26384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 rot="12678600">
            <a:off x="14325120" y="3048120"/>
            <a:ext cx="6553440" cy="868680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17145000"/>
            <a:ext cx="5867280" cy="9144000"/>
          </a:xfrm>
          <a:prstGeom prst="parallelogram">
            <a:avLst>
              <a:gd name="adj" fmla="val 25000"/>
            </a:avLst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90920" y="19735920"/>
            <a:ext cx="4927320" cy="6657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rot="20782800">
            <a:off x="12344400" y="14782320"/>
            <a:ext cx="8305920" cy="112014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20400000">
            <a:off x="7391520" y="15544440"/>
            <a:ext cx="5333760" cy="205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20862000">
            <a:off x="10652040" y="2301480"/>
            <a:ext cx="7239240" cy="906768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20272200">
            <a:off x="8152920" y="1294920"/>
            <a:ext cx="5257800" cy="25225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 rot="21400800">
            <a:off x="1980720" y="2133360"/>
            <a:ext cx="10363320" cy="236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OC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638680" y="15316200"/>
            <a:ext cx="14783040" cy="11201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29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SE'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SAB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SAB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SABEM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SAB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11049120"/>
            <a:ext cx="19964520" cy="4419360"/>
          </a:xfrm>
          <a:custGeom>
            <a:avLst/>
            <a:gdLst>
              <a:gd name="textAreaLeft" fmla="*/ 4991040 w 19964520"/>
              <a:gd name="textAreaRight" fmla="*/ 14973480 w 19964520"/>
              <a:gd name="textAreaTop" fmla="*/ 1104840 h 4419360"/>
              <a:gd name="textAreaBottom" fmla="*/ 4288680 h 4419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Staccato222 BT"/>
              </a:rPr>
              <a:t>EL CAMBIO DE LETRAS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 rot="20967600">
            <a:off x="1523880" y="16535160"/>
            <a:ext cx="10363320" cy="236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AB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962520" y="2819520"/>
            <a:ext cx="13334760" cy="8812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29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CONOZC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CONOC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CONO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CONOCEM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CONOC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28600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6517600"/>
            <a:ext cx="228600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534520" y="2819160"/>
            <a:ext cx="5181480" cy="1066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1506320" y="3885840"/>
            <a:ext cx="5181480" cy="1066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1430000" y="5257440"/>
            <a:ext cx="5181480" cy="1066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1353680" y="6629040"/>
            <a:ext cx="5181840" cy="1066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1277720" y="8000640"/>
            <a:ext cx="5181480" cy="1066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1201400" y="9372240"/>
            <a:ext cx="5181480" cy="1066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0744200" y="17373240"/>
            <a:ext cx="5181480" cy="1066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2801600" y="20649960"/>
            <a:ext cx="5181480" cy="1066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2725280" y="19354680"/>
            <a:ext cx="5181840" cy="1067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3944600" y="22021920"/>
            <a:ext cx="601992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3411080" y="24078960"/>
            <a:ext cx="5181840" cy="1066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7221320" y="2819520"/>
            <a:ext cx="4029120" cy="4043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6421040" y="13563720"/>
            <a:ext cx="643896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658600" y="13716000"/>
            <a:ext cx="11201400" cy="137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6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9202400" y="22097880"/>
            <a:ext cx="2619360" cy="2270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0"/>
            <a:ext cx="11201400" cy="1325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33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658600" y="0"/>
            <a:ext cx="11201400" cy="1310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3868280"/>
            <a:ext cx="11201400" cy="1356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3399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0"/>
            <a:ext cx="8686800" cy="1257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600" spc="-1" strike="noStrike" u="sng">
                <a:solidFill>
                  <a:srgbClr val="cc3300"/>
                </a:solidFill>
                <a:uFillTx/>
                <a:latin typeface="Staccato222 BT"/>
              </a:rPr>
              <a:t>PODER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UE</a:t>
            </a: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UE</a:t>
            </a: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DES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UE</a:t>
            </a: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PODEMOS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UE</a:t>
            </a: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DEN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649320" y="0"/>
            <a:ext cx="8534160" cy="12192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600" spc="-1" strike="noStrike" u="sng">
                <a:solidFill>
                  <a:srgbClr val="33cc33"/>
                </a:solidFill>
                <a:uFillTx/>
                <a:latin typeface="Staccato222 BT"/>
              </a:rPr>
              <a:t>JUGAR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J</a:t>
            </a:r>
            <a:r>
              <a:rPr b="1" lang="en-US" sz="10600" spc="-1" strike="noStrike">
                <a:solidFill>
                  <a:srgbClr val="33cc33"/>
                </a:solidFill>
                <a:latin typeface="Times New Roman"/>
              </a:rPr>
              <a:t>UE</a:t>
            </a: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GO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J</a:t>
            </a:r>
            <a:r>
              <a:rPr b="1" lang="en-US" sz="10600" spc="-1" strike="noStrike">
                <a:solidFill>
                  <a:srgbClr val="33cc33"/>
                </a:solidFill>
                <a:latin typeface="Times New Roman"/>
              </a:rPr>
              <a:t>UEG</a:t>
            </a: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AS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J</a:t>
            </a:r>
            <a:r>
              <a:rPr b="1" lang="en-US" sz="10600" spc="-1" strike="noStrike">
                <a:solidFill>
                  <a:srgbClr val="33cc33"/>
                </a:solidFill>
                <a:latin typeface="Times New Roman"/>
              </a:rPr>
              <a:t>UE</a:t>
            </a: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GA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JUGAMOS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J</a:t>
            </a:r>
            <a:r>
              <a:rPr b="1" lang="en-US" sz="10600" spc="-1" strike="noStrike">
                <a:solidFill>
                  <a:srgbClr val="33cc33"/>
                </a:solidFill>
                <a:latin typeface="Times New Roman"/>
              </a:rPr>
              <a:t>UE</a:t>
            </a: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GAN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14249520"/>
            <a:ext cx="9220320" cy="1219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600" spc="-1" strike="noStrike" u="sng">
                <a:solidFill>
                  <a:srgbClr val="3333cc"/>
                </a:solidFill>
                <a:uFillTx/>
                <a:latin typeface="Staccato222 BT"/>
              </a:rPr>
              <a:t>VOLVER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V</a:t>
            </a:r>
            <a:r>
              <a:rPr b="1" lang="en-US" sz="10600" spc="-1" strike="noStrike">
                <a:solidFill>
                  <a:srgbClr val="3333cc"/>
                </a:solidFill>
                <a:latin typeface="Times New Roman"/>
              </a:rPr>
              <a:t>UE</a:t>
            </a: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LVO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V</a:t>
            </a:r>
            <a:r>
              <a:rPr b="1" lang="en-US" sz="10600" spc="-1" strike="noStrike">
                <a:solidFill>
                  <a:srgbClr val="3333cc"/>
                </a:solidFill>
                <a:latin typeface="Times New Roman"/>
              </a:rPr>
              <a:t>UE</a:t>
            </a: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LVES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V</a:t>
            </a:r>
            <a:r>
              <a:rPr b="1" lang="en-US" sz="10600" spc="-1" strike="noStrike">
                <a:solidFill>
                  <a:srgbClr val="3333cc"/>
                </a:solidFill>
                <a:latin typeface="Times New Roman"/>
              </a:rPr>
              <a:t>UE</a:t>
            </a: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LVE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VOLVEMOS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V</a:t>
            </a:r>
            <a:r>
              <a:rPr b="1" lang="en-US" sz="10600" spc="-1" strike="noStrike">
                <a:solidFill>
                  <a:srgbClr val="3333cc"/>
                </a:solidFill>
                <a:latin typeface="Times New Roman"/>
              </a:rPr>
              <a:t>UE</a:t>
            </a: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LVEN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21318000">
            <a:off x="1218960" y="11734560"/>
            <a:ext cx="19659600" cy="21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ffffff"/>
                </a:solidFill>
                <a:latin typeface="Staccato222 BT"/>
              </a:rPr>
              <a:t>EL CAMBIO DE RAIZ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228600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6517600"/>
            <a:ext cx="228600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1658600" y="14478120"/>
            <a:ext cx="5172120" cy="42274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8668880" y="17830800"/>
            <a:ext cx="3110040" cy="3967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13716000" y="21183480"/>
            <a:ext cx="2736720" cy="4310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 rot="21201000">
            <a:off x="14407920" y="15010560"/>
            <a:ext cx="950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Staccato222 BT"/>
              </a:rPr>
              <a:t>YO PUEDO PINTA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20776200">
            <a:off x="11677680" y="18820440"/>
            <a:ext cx="944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Staccato222 BT"/>
              </a:rPr>
              <a:t>EL JUEGA AL TENI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9000">
            <a:off x="10871640" y="25450200"/>
            <a:ext cx="1201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Staccato222 BT"/>
              </a:rPr>
              <a:t>EL SENOR VUELVE A SU CAS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4T21:37:09Z</dcterms:created>
  <dc:creator>ValeriaP</dc:creator>
  <dc:description/>
  <dc:language>en-US</dc:language>
  <cp:lastModifiedBy>Preferred Customer</cp:lastModifiedBy>
  <cp:lastPrinted>2000-04-20T22:48:03Z</cp:lastPrinted>
  <dcterms:modified xsi:type="dcterms:W3CDTF">2001-01-08T01:35:11Z</dcterms:modified>
  <cp:revision>38</cp:revision>
  <dc:subject/>
  <dc:title>No Slide Title</dc:title>
</cp:coreProperties>
</file>